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34D2-5797-4AC7-89F8-53D4F7F7E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D7C4-74B3-4C50-AF8B-C67A9D03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23B9-C423-44F2-BA47-9B39CD0C3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1B3F-FE08-42A6-B382-278227CA1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2617-E5A6-46B5-A4D8-CC373021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A153-CF74-4D74-878E-E3860999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5835-0DD7-4E68-A23B-91936A75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F1FC-017B-4E92-9CE6-E6F28AC6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9209-2070-42BB-80AC-E1CDD047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784F-F0E6-4445-B598-1E5D55FA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FF9C-7655-43DA-A8F2-DFDF518C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E50C-7F27-4D72-AAFA-00C52ADE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489A-A19A-4FE4-BF09-B8176FCEB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fol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9:01:13Z</dcterms:created>
  <dc:creator>holzhäuser</dc:creator>
  <dc:description/>
  <dc:language>en-US</dc:language>
  <cp:lastModifiedBy>holzhäuser</cp:lastModifiedBy>
  <dcterms:modified xsi:type="dcterms:W3CDTF">2005-04-15T09:01:25Z</dcterms:modified>
  <cp:revision>1</cp:revision>
  <dc:subject/>
  <dc:title>Testfolie</dc:title>
</cp:coreProperties>
</file>