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4A9-F68C-44DB-B98E-5D248C9B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804B-2F3D-4FB0-8F0D-2CE60F3D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750-5466-4109-B011-4F40EAEC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2F2B-F73D-4E0A-9DAC-808713F7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139A-53A9-4BC3-91E0-F1160813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F86C-0E20-4B15-BB66-61842AC2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5AF-E442-4276-980E-D51AC744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EFF1-D954-4F47-A884-2376EA49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EE8-5F76-4F8B-BB61-F54ABF80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CB1E-5B10-49BF-86D9-25D29B04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264-33B2-4BC7-944A-BDC95F5F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0FF-E6DD-4376-82C9-A3E06C8F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3AF0-33B6-44E1-ADC8-90735FF6C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fol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9:01:13Z</dcterms:created>
  <dc:creator>holzhäuser</dc:creator>
  <dc:description/>
  <dc:language>en-US</dc:language>
  <cp:lastModifiedBy>holzhäuser</cp:lastModifiedBy>
  <dcterms:modified xsi:type="dcterms:W3CDTF">2005-04-15T09:01:25Z</dcterms:modified>
  <cp:revision>1</cp:revision>
  <dc:subject/>
  <dc:title>Testfolie</dc:title>
</cp:coreProperties>
</file>