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1469-91B2-48D4-85FC-AAFEA40A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6661-274A-4A71-8855-C8C26EA0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FF79-423D-4745-A9C3-0EA4607C9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B852-4A39-46E6-9654-69769D92E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FEB7-BACB-4FDD-8E63-FD52BE1C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49DC-B850-479C-BB93-D8AF9532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186D-6DC0-4221-BF88-6E45BAD2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E282-60F5-404C-B3A2-A05F99B74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C59B-C645-4CFF-B808-DC828972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DBB1-6D56-4AFD-A8DE-F3EFA7DA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ABCD-1ACF-47A5-BFEA-70E44174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2019-5439-43D3-9415-D012A8E0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FA2C-CCA1-4212-A817-9B991449D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fol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9:01:13Z</dcterms:created>
  <dc:creator>holzhäuser</dc:creator>
  <dc:description/>
  <dc:language>en-US</dc:language>
  <cp:lastModifiedBy>holzhäuser</cp:lastModifiedBy>
  <dcterms:modified xsi:type="dcterms:W3CDTF">2005-04-15T09:01:25Z</dcterms:modified>
  <cp:revision>1</cp:revision>
  <dc:subject/>
  <dc:title>Testfolie</dc:title>
</cp:coreProperties>
</file>